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816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5440" y="0"/>
            <a:ext cx="30085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0" y="8742240"/>
            <a:ext cx="30081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92544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FFF3-EDB2-402C-9D58-398D353F3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62080" y="700560"/>
            <a:ext cx="4609080" cy="34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DCA7E77-B988-41AE-B099-CE6F776F0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659480" cy="3495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4419-F8F0-4770-9208-ADED22F9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F963-2595-4EEC-87EC-F5F336062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A4EC-7122-438D-AA21-FB921E03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2480" y="4277880"/>
            <a:ext cx="50770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B91F-919E-4FAE-A061-6E6DC1AC3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5A42-7F18-4BE1-A5A2-D1DAC3D70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5560" y="4410000"/>
            <a:ext cx="50832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56C7-AD7A-403E-93EA-4736CA27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940E-725F-437A-B467-D9CFF2285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614C-A8EF-40A5-BA4C-A531772CD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CE2-80BB-413D-9A06-DE06AAF74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7640-2A22-40E6-8DBE-C8ABF3EC4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B403-F21E-45FB-9536-716C16626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45AC-960B-4A6A-B85B-BF193FC79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is slide to wrap-up the brainstorm acti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benefits: data for school improvement planning, grade-level team meetings, parental support (ONLY SHARE INDIVIDUAL REPORT), one-on-one conferencing with students, goal setting, celebrating growth, and easing temperament of students and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e to Train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eed to tailor based on time. May want audience to read and absor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4318-F61E-425A-8A3A-692DFD6E1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A922-B73B-4933-8940-51DF75480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F8E0-BDAC-4620-8558-D7115B2BD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141-8249-40ED-AB56-23F901AA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D48C-3216-418C-A908-34815CB4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3D12-F5ED-4CFC-A1C8-28542314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CF82-9F6A-45FA-B307-6160AFEB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D960-5BB9-4CFF-9FC3-A2F548861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DCE5-5A69-4382-A7CB-CCA486E66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8EF-1A96-43FE-A7E2-7C631B74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3C4-E114-4BCE-9BB2-09C38149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60C-70E0-40DF-9DAE-91060136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C76-490F-4609-B226-E0132FFE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13D-AEB9-4DCD-BE1E-BC96AA51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119-04CD-4F80-9473-E44823FE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AB0-9CCC-49C1-B2F5-CB4702A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604-B2FF-4A67-A832-AC56422D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8BF-147B-464D-8BCE-7299088E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B82-63B6-4593-9106-A8977D04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845-507D-471C-B5F3-7242603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ECA-8D94-4684-9F7F-9CD632B2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26C5-EEE9-4F9C-A211-98949CE4242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1FE0-66AF-4A2D-B421-0E866BB502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9"/>
          <p:cNvSpPr/>
          <p:nvPr/>
        </p:nvSpPr>
        <p:spPr>
          <a:xfrm>
            <a:off x="6781680" y="533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3"/>
          <p:cNvSpPr/>
          <p:nvPr/>
        </p:nvSpPr>
        <p:spPr>
          <a:xfrm>
            <a:off x="0" y="-9360"/>
            <a:ext cx="6670800" cy="533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52"/>
          <p:cNvSpPr/>
          <p:nvPr/>
        </p:nvSpPr>
        <p:spPr>
          <a:xfrm>
            <a:off x="276120" y="144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sroom Diagnostic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Object 58" descr=""/>
          <p:cNvPicPr/>
          <p:nvPr/>
        </p:nvPicPr>
        <p:blipFill>
          <a:blip r:embed="rId2"/>
          <a:stretch/>
        </p:blipFill>
        <p:spPr>
          <a:xfrm>
            <a:off x="6918480" y="0"/>
            <a:ext cx="213012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920880" y="1446120"/>
            <a:ext cx="733248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General Overview of the CD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ebruary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43000" y="58420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Tom Corbett,  </a:t>
            </a:r>
            <a:br>
              <a:rPr sz="1800"/>
            </a:b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Gover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089000" y="1436760"/>
            <a:ext cx="6966000" cy="16081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1D99-68BB-4807-8C3F-65760880D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36248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Ronald J. Tomali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 </a:t>
            </a: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Secretary of Education - Desig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Learning Prog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are they import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Anchors and Eligible Content provide information abo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udents should know and be able to do at a given grade/cour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Progressions show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arning within a diagnostic category, based upon the Assessment Anchors and Eligible Content, develops across grades; not just within a given grade/cour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A4B9-FB77-438B-B6CC-580074885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DT Learning Progressio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2800" y="1831680"/>
            <a:ext cx="833616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T includes a report tied directly to Learning Progression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repor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scrollable vertical map showing how learning progresses for each diagnostic category across grades and/or cour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teachers plan targeted instruction by providing a visual snapshot of how the student is progress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information as to whether the student i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ill struggling to master foundational content and/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ing forward with more advanced content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269-865F-4AC2-AAB0-828F1805E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9004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DT Learning Progressio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report al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s exactly what Assessment Anchor and Eligible Content is measured by each CDT item or items the student answered correctly or incorrectly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sample item of average difficulty for each Assessment Anchor as defined by the Eligible Cont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teachers with the most efficient and direct way to find units and lesson plans in SAS directly tied to Eligible Con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s directly to additional materials and resources in S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0353-34E3-411B-8E5B-F9113792C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784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Learning Progression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F9FF-36B5-476F-8F70-3583B37CD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1534" t="976" r="0" b="0"/>
          <a:stretch/>
        </p:blipFill>
        <p:spPr>
          <a:xfrm>
            <a:off x="1886040" y="1351080"/>
            <a:ext cx="4979880" cy="47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Rounded Rectangular Callout 11"/>
          <p:cNvSpPr/>
          <p:nvPr/>
        </p:nvSpPr>
        <p:spPr>
          <a:xfrm>
            <a:off x="220680" y="2009880"/>
            <a:ext cx="2854440" cy="1065240"/>
          </a:xfrm>
          <a:prstGeom prst="wedgeRoundRectCallout">
            <a:avLst>
              <a:gd name="adj1" fmla="val 72430"/>
              <a:gd name="adj2" fmla="val 173884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vering over a dot will show the eligible content. Clicking on Materials and Resources will link to SAS, or clicking on Sample Item will allow a view  of the sample item for the Eligible Content Code se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ular Callout 12"/>
          <p:cNvSpPr/>
          <p:nvPr/>
        </p:nvSpPr>
        <p:spPr>
          <a:xfrm>
            <a:off x="6829560" y="2470320"/>
            <a:ext cx="1677960" cy="1012680"/>
          </a:xfrm>
          <a:prstGeom prst="wedgeRoundRectCallout">
            <a:avLst>
              <a:gd name="adj1" fmla="val -72837"/>
              <a:gd name="adj2" fmla="val 197000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een and red dots indicate that the student received items for the eligible 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ounded Rectangular Callout 13"/>
          <p:cNvSpPr/>
          <p:nvPr/>
        </p:nvSpPr>
        <p:spPr>
          <a:xfrm>
            <a:off x="7567560" y="5443560"/>
            <a:ext cx="1015920" cy="531720"/>
          </a:xfrm>
          <a:prstGeom prst="wedgeRoundRectCallout">
            <a:avLst>
              <a:gd name="adj1" fmla="val -176064"/>
              <a:gd name="adj2" fmla="val 32717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p 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00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719-F207-4020-A92B-802B3FCFD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982800" y="1600200"/>
            <a:ext cx="7178400" cy="452592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</p:spPr>
      </p:pic>
      <p:sp>
        <p:nvSpPr>
          <p:cNvPr id="150" name="Rounded Rectangular Callout 6"/>
          <p:cNvSpPr/>
          <p:nvPr/>
        </p:nvSpPr>
        <p:spPr>
          <a:xfrm>
            <a:off x="5232240" y="1720800"/>
            <a:ext cx="1845000" cy="549360"/>
          </a:xfrm>
          <a:prstGeom prst="wedgeRoundRectCallout">
            <a:avLst>
              <a:gd name="adj1" fmla="val -125185"/>
              <a:gd name="adj2" fmla="val 129962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ach white dot represents a student‘s sco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ounded Rectangular Callout 7"/>
          <p:cNvSpPr/>
          <p:nvPr/>
        </p:nvSpPr>
        <p:spPr>
          <a:xfrm>
            <a:off x="4954680" y="3355920"/>
            <a:ext cx="2955960" cy="716040"/>
          </a:xfrm>
          <a:prstGeom prst="wedgeRoundRectCallout">
            <a:avLst>
              <a:gd name="adj1" fmla="val -86300"/>
              <a:gd name="adj2" fmla="val 117708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ving from red to blue quickly provides information on a group’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reas of need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trengths to build o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ounded Rectangular Callout 8"/>
          <p:cNvSpPr/>
          <p:nvPr/>
        </p:nvSpPr>
        <p:spPr>
          <a:xfrm>
            <a:off x="5051520" y="4452840"/>
            <a:ext cx="2222280" cy="676440"/>
          </a:xfrm>
          <a:prstGeom prst="wedgeRoundRectCallout">
            <a:avLst>
              <a:gd name="adj1" fmla="val -70250"/>
              <a:gd name="adj2" fmla="val 88648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ment results are shown for each diagnostic category and overall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7840" y="7063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9E75-03FB-423B-80D1-93BA8B9F55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46240" y="1538280"/>
            <a:ext cx="6962760" cy="4572000"/>
          </a:xfrm>
          <a:prstGeom prst="rect">
            <a:avLst/>
          </a:prstGeom>
          <a:ln w="6480">
            <a:solidFill>
              <a:srgbClr val="002060">
                <a:alpha val="88000"/>
              </a:srgbClr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Rounded Rectangular Callout 12"/>
          <p:cNvSpPr/>
          <p:nvPr/>
        </p:nvSpPr>
        <p:spPr>
          <a:xfrm>
            <a:off x="4964040" y="3400560"/>
            <a:ext cx="1849680" cy="544320"/>
          </a:xfrm>
          <a:prstGeom prst="wedgeRoundRectCallout">
            <a:avLst>
              <a:gd name="adj1" fmla="val -132171"/>
              <a:gd name="adj2" fmla="val -32092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vering over a white dot will display specific student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ounded Rectangular Callout 13"/>
          <p:cNvSpPr/>
          <p:nvPr/>
        </p:nvSpPr>
        <p:spPr>
          <a:xfrm>
            <a:off x="5049720" y="4282920"/>
            <a:ext cx="2597400" cy="812880"/>
          </a:xfrm>
          <a:prstGeom prst="wedgeRoundRectCallout">
            <a:avLst>
              <a:gd name="adj1" fmla="val -113282"/>
              <a:gd name="adj2" fmla="val -76097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ecting a student will highlight the student skill level for each diagnostic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7840" y="5760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674720"/>
            <a:ext cx="79390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9E17-99FF-4571-B848-FA8B01778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rcRect l="1547" t="0" r="11574" b="0"/>
          <a:stretch/>
        </p:blipFill>
        <p:spPr>
          <a:xfrm>
            <a:off x="1509840" y="2023920"/>
            <a:ext cx="6394320" cy="429768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3" descr=""/>
          <p:cNvPicPr/>
          <p:nvPr/>
        </p:nvPicPr>
        <p:blipFill>
          <a:blip r:embed="rId2"/>
          <a:srcRect l="2200" t="0" r="11786" b="0"/>
          <a:stretch/>
        </p:blipFill>
        <p:spPr>
          <a:xfrm>
            <a:off x="692280" y="4143240"/>
            <a:ext cx="2700360" cy="201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5" name="Rounded Rectangular Callout 10"/>
          <p:cNvSpPr/>
          <p:nvPr/>
        </p:nvSpPr>
        <p:spPr>
          <a:xfrm>
            <a:off x="3660840" y="3192480"/>
            <a:ext cx="2577960" cy="762120"/>
          </a:xfrm>
          <a:prstGeom prst="wedgeRoundRectCallout">
            <a:avLst>
              <a:gd name="adj1" fmla="val 33222"/>
              <a:gd name="adj2" fmla="val 129111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on an eligible content link once a student or group of students have been selected to display aligned materials and resources in 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7840" y="7063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6B7-DE10-421F-8E77-B917CFD7B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57240" y="1649520"/>
            <a:ext cx="7415280" cy="457200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0" name="Rounded Rectangular Callout 12"/>
          <p:cNvSpPr/>
          <p:nvPr/>
        </p:nvSpPr>
        <p:spPr>
          <a:xfrm>
            <a:off x="5137200" y="1590840"/>
            <a:ext cx="2952720" cy="853920"/>
          </a:xfrm>
          <a:prstGeom prst="wedgeRoundRectCallout">
            <a:avLst>
              <a:gd name="adj1" fmla="val -124976"/>
              <a:gd name="adj2" fmla="val 40101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ecting one of the diagnostic categories, will display the three most recent assessment events for a group of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ounded Rectangular Callout 13"/>
          <p:cNvSpPr/>
          <p:nvPr/>
        </p:nvSpPr>
        <p:spPr>
          <a:xfrm>
            <a:off x="1514520" y="2685960"/>
            <a:ext cx="1760400" cy="1252800"/>
          </a:xfrm>
          <a:prstGeom prst="wedgeRoundRectCallout">
            <a:avLst>
              <a:gd name="adj1" fmla="val 91236"/>
              <a:gd name="adj2" fmla="val 52537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ecting a group of students and clicking on Show Eligible Content, will display aligned Materials and Resources available on 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950B-9414-4B57-837C-7611E5A27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152360" y="1600200"/>
            <a:ext cx="6839280" cy="452592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ounded Rectangular Callout 6"/>
          <p:cNvSpPr/>
          <p:nvPr/>
        </p:nvSpPr>
        <p:spPr>
          <a:xfrm>
            <a:off x="4722840" y="1574640"/>
            <a:ext cx="2392200" cy="887400"/>
          </a:xfrm>
          <a:prstGeom prst="wedgeRoundRectCallout">
            <a:avLst>
              <a:gd name="adj1" fmla="val -142777"/>
              <a:gd name="adj2" fmla="val -27268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ing on the Individual Map, after selecting a student within the Group Map, allows educators to display a student’s diagnostic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ounded Rectangular Callout 7"/>
          <p:cNvSpPr/>
          <p:nvPr/>
        </p:nvSpPr>
        <p:spPr>
          <a:xfrm>
            <a:off x="5033880" y="3527280"/>
            <a:ext cx="1959120" cy="722520"/>
          </a:xfrm>
          <a:prstGeom prst="wedgeRoundRectCallout">
            <a:avLst>
              <a:gd name="adj1" fmla="val -94925"/>
              <a:gd name="adj2" fmla="val -31254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ect a student to view that student’s results across all diagnostic categ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Individual Diagnostic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07D8-E47E-4B3F-A6F7-3F039397E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7191360" cy="452592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</p:spPr>
      </p:pic>
      <p:sp>
        <p:nvSpPr>
          <p:cNvPr id="182" name="Rounded Rectangular Callout 6"/>
          <p:cNvSpPr/>
          <p:nvPr/>
        </p:nvSpPr>
        <p:spPr>
          <a:xfrm>
            <a:off x="5538960" y="3173400"/>
            <a:ext cx="2412720" cy="1116000"/>
          </a:xfrm>
          <a:prstGeom prst="wedgeRoundRectCallout">
            <a:avLst>
              <a:gd name="adj1" fmla="val -86495"/>
              <a:gd name="adj2" fmla="val 6328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Individual Map displays only the student’s three most recent assessments. The vertical lines indicate the standard error for each sc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ular Callout 7"/>
          <p:cNvSpPr/>
          <p:nvPr/>
        </p:nvSpPr>
        <p:spPr>
          <a:xfrm>
            <a:off x="5510160" y="4484520"/>
            <a:ext cx="2413080" cy="884520"/>
          </a:xfrm>
          <a:prstGeom prst="wedgeRoundRectCallout">
            <a:avLst>
              <a:gd name="adj1" fmla="val -93578"/>
              <a:gd name="adj2" fmla="val 69490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legend at the bottom of the map shows the date for each of the three most recent assess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CDT Overview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9640" y="182880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rpose of this presentation is to provide general information about the Classroom Diagnostic Tools (CDT).  This presentation also contains screenshots of the CDT Interactive Repor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CEC5-A486-416A-B7B2-BE05F930D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873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CDT reports, including the Learning Progression Maps, are important because they provid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1404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concerning what the student(s) should know and be able to do at a given grade/course as represented by the Assessment Anchors and Eligible Content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view of the pathway or how learning may take place within a diagnostic category; this information may  suggest a “trend” showing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here a student is still struggling with a foundational skill/concept introduced at an earlier point in the progression o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here a student is extending beyond what he or she is expected to know and be able to do at a given grade/course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pportunities for targeted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B12D-CBD2-47FE-AC4D-7475AE523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65700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hy should the Classroom Diagnostic Tools be used? </a:t>
            </a:r>
            <a:br>
              <a:rPr sz="28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5600" y="2037960"/>
            <a:ext cx="8663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 for Stud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ecific and timely feedback designed to support student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s efficacy by bringing students into the process of their own lear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s goal-setting by involving students in the learning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tudents with opportunities to demonstrate their knowledge and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s partnering with teachers (e.g., one-on-one conferenc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s that follow-up instruction is meaningful and aligns with student learn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18B9-B7A7-4A5C-8FB1-55DF7BD60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6951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Why should the Classroom Diagnostic Tools be used? </a:t>
            </a:r>
            <a:br>
              <a:rPr sz="40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69640" y="188424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 for Teacher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s teaching and collaboration with students, parents/guardians, and ot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immediate access to diagnostic reports about student strengths and areas of n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s teacher understanding of student strengths and areas of need throughout the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s monitoring of student achievement to guide ongoing planning and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ides individual as well as flexible grouping of students to target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immediate access to SAS resources to support whole and small group and individual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opportunities for teachers to reflect, collaborate, and match instruction to student n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Calibri"/>
              </a:rPr>
              <a:t>Rather than another mechanism of reporting information about student performance, the CDT is an integral part of the constructive process involving teaching and learn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AFCA-E61E-4194-ABCE-E4E0F00B7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97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Why should the Classroom Diagnostic Tools be used? </a:t>
            </a:r>
            <a:br>
              <a:rPr sz="40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9640" y="1884240"/>
            <a:ext cx="8583480" cy="4510080"/>
          </a:xfrm>
          <a:prstGeom prst="rect">
            <a:avLst/>
          </a:prstGeom>
          <a:noFill/>
          <a:ln w="9360">
            <a:solidFill>
              <a:srgbClr val="254061"/>
            </a:solidFill>
            <a:miter/>
          </a:ln>
        </p:spPr>
        <p:txBody>
          <a:bodyPr anchor="t">
            <a:normAutofit/>
          </a:bodyPr>
          <a:p>
            <a:pPr lvl="1" marL="743040" indent="-743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nefits for Parents/Guardians: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motes collaboration with students, teachers, and oth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motes conversation and understanding regarding student strengths and areas of need throughout the yea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des the opportunity to view and understand their student’s achievement in a visual represent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des access to information linked to SAS resources to support their student’s learning  at ho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s the partnership among the student, teacher, and parents/guardia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9F80-4D7A-480E-99C4-45A80A57E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B897-ACC3-46DF-9EE0-4EFF3F9D570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5904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ho are the target students/groups? </a:t>
            </a:r>
            <a:br>
              <a:rPr sz="6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69640" y="1856880"/>
            <a:ext cx="8583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enter our classes with many skills, abilities, and competencies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, it is highly recommended that all students be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results, the target students/groups might differ each tim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s with wide achievement gaps should utilize the tool more o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E2F2-2804-497A-9703-8CC2E4ACE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800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How often should the Classroom Diagnostic Tools be administered?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4040" y="2104920"/>
            <a:ext cx="858384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about student strengths and areas of need over time enables teachers to plan student instruction and provide appropriate follow-up activities to meet ongoing learning expect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DT could be administered to students three to five times per school year based on student needs and analysis of da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ximum number of administrations is five per CDT per school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weeks between each administration is recomme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F40E-F8FD-4620-A24D-D2F5230FE0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DT Core Team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38149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51A6-337B-4FD3-AD05-B19560C9273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6C60-B590-4D22-87B2-03224E792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58840" y="1324080"/>
            <a:ext cx="3862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en Muir – Harrisburg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bbie Pfingstler, Ed.D.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Intermediate Unit # 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McGrane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zerne Intermediate Unit #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ie Wayne – Pennsylvania Department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dy Mierzejewski, Ed.D. – Berks County Intermediate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ne Funsten – King of Prussia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leen St. John – Pittsburgh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g Llewellyn – King of Prussia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cy Ficca – Harrisburg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305240" y="1065240"/>
            <a:ext cx="4838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hy Emeigh -  Colonial Intermediate Unit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lene Schechter – Pittsburgh PaTT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m Kastner – Harrisburg PaT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 Hardy – Pennsylvania Department of Edu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ty McDivitt – Data Recognition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h Maraschiello, Ph.D. – Pennsylvania Department of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undra Sand – Data Recognition Corpo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 Novakovich – Pennsylvania Department of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63680" y="1542960"/>
            <a:ext cx="8229600" cy="495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012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CDT and S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C066-399C-47E9-BBF5-31712B39D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studentAchievement1.jpg"/>
          <p:cNvPicPr/>
          <p:nvPr/>
        </p:nvPicPr>
        <p:blipFill>
          <a:blip r:embed="rId1"/>
          <a:stretch/>
        </p:blipFill>
        <p:spPr>
          <a:xfrm>
            <a:off x="2602080" y="2027160"/>
            <a:ext cx="3976560" cy="429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jmratka\Desktop\PDE SAS\SAS-logo.png"/>
          <p:cNvPicPr/>
          <p:nvPr/>
        </p:nvPicPr>
        <p:blipFill>
          <a:blip r:embed="rId2"/>
          <a:stretch/>
        </p:blipFill>
        <p:spPr>
          <a:xfrm>
            <a:off x="554040" y="1776240"/>
            <a:ext cx="1635120" cy="365400"/>
          </a:xfrm>
          <a:prstGeom prst="rect">
            <a:avLst/>
          </a:prstGeom>
          <a:ln w="0">
            <a:noFill/>
          </a:ln>
        </p:spPr>
      </p:pic>
      <p:sp>
        <p:nvSpPr>
          <p:cNvPr id="73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3"/>
          <p:cNvSpPr/>
          <p:nvPr/>
        </p:nvSpPr>
        <p:spPr>
          <a:xfrm>
            <a:off x="4037040" y="3051000"/>
            <a:ext cx="749160" cy="5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9"/>
          <p:cNvSpPr/>
          <p:nvPr/>
        </p:nvSpPr>
        <p:spPr>
          <a:xfrm>
            <a:off x="3514680" y="4049640"/>
            <a:ext cx="1793880" cy="28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similarities and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Benchmark Assessments and Diagnostic Too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139D-2CE6-45FA-B6E3-6255CD8DF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17400" y="1209600"/>
            <a:ext cx="8006040" cy="5518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1449360" y="1235160"/>
            <a:ext cx="17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Bench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5286240" y="1219320"/>
            <a:ext cx="19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2733840" y="1800360"/>
            <a:ext cx="1276200" cy="2311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rade-level specif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1817640" y="2173320"/>
            <a:ext cx="1467000" cy="5054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asures content at the reporting category level for reading and mat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1058760" y="3254400"/>
            <a:ext cx="160992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udents do not receive direct, formative feedback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379520" y="4084560"/>
            <a:ext cx="743040" cy="2311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ass too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051600" y="2835360"/>
            <a:ext cx="14479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vides current level of perform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6537240" y="3230640"/>
            <a:ext cx="155268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dentifies areas of strengths and needs across grade levels and subject a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6307200" y="3749760"/>
            <a:ext cx="1146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dividual/small group measurement too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3716280" y="2481120"/>
            <a:ext cx="77328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ults need to be us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4548240" y="2589120"/>
            <a:ext cx="99684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n be given no more than 5 times a ye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308400" y="3265560"/>
            <a:ext cx="86040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forms instructional proc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4927680" y="3146400"/>
            <a:ext cx="79848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ces us to ask more ques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3852720" y="4691160"/>
            <a:ext cx="167652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ults may be used to establish student goal set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4179960" y="2125800"/>
            <a:ext cx="81900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ults support goal-set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6472080" y="4160880"/>
            <a:ext cx="129564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st lessons to support eligible content for strengths and areas of need are available on S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5508720" y="1803240"/>
            <a:ext cx="107640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agnosis of  student strengths and areas of need at instructional lev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4129200" y="5132520"/>
            <a:ext cx="100008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ministered throughout the school y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3456000" y="3753000"/>
            <a:ext cx="2206440" cy="580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 of regularly collecting, summarizing, and analyzing information to guide development, implementation, and evaluation of i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ate Placeholder 2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7"/>
          <p:cNvSpPr/>
          <p:nvPr/>
        </p:nvSpPr>
        <p:spPr>
          <a:xfrm>
            <a:off x="1025640" y="3735360"/>
            <a:ext cx="1706400" cy="246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swers the question, What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8"/>
          <p:cNvSpPr/>
          <p:nvPr/>
        </p:nvSpPr>
        <p:spPr>
          <a:xfrm>
            <a:off x="6627960" y="2303640"/>
            <a:ext cx="98712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swers the questions, What?, Why?, and H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30"/>
          <p:cNvSpPr/>
          <p:nvPr/>
        </p:nvSpPr>
        <p:spPr>
          <a:xfrm>
            <a:off x="3316320" y="5673600"/>
            <a:ext cx="736560" cy="398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y re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5977080" y="4889520"/>
            <a:ext cx="18158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uter-adaptive tool based on a vertical scale that spans content from grades 3 to high school/cour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33"/>
          <p:cNvSpPr/>
          <p:nvPr/>
        </p:nvSpPr>
        <p:spPr>
          <a:xfrm>
            <a:off x="1531800" y="5005440"/>
            <a:ext cx="1854360" cy="550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xed form -- everyone takes the same assessment at a given grade leve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4"/>
          <p:cNvSpPr/>
          <p:nvPr/>
        </p:nvSpPr>
        <p:spPr>
          <a:xfrm>
            <a:off x="4251240" y="3182760"/>
            <a:ext cx="55872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vide effective feed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6"/>
          <p:cNvSpPr/>
          <p:nvPr/>
        </p:nvSpPr>
        <p:spPr>
          <a:xfrm>
            <a:off x="1176480" y="2754360"/>
            <a:ext cx="1555560" cy="398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s a standards-aligned benchm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7"/>
          <p:cNvSpPr/>
          <p:nvPr/>
        </p:nvSpPr>
        <p:spPr>
          <a:xfrm>
            <a:off x="1068480" y="4405320"/>
            <a:ext cx="1733400" cy="550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s an estimate of student performance on a summativ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8"/>
          <p:cNvSpPr/>
          <p:nvPr/>
        </p:nvSpPr>
        <p:spPr>
          <a:xfrm>
            <a:off x="3668760" y="4275000"/>
            <a:ext cx="182880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udents may be tested on material not formerly tau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95440" y="5600880"/>
            <a:ext cx="895320" cy="398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up measur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42"/>
          <p:cNvSpPr/>
          <p:nvPr/>
        </p:nvSpPr>
        <p:spPr>
          <a:xfrm>
            <a:off x="3467160" y="2862360"/>
            <a:ext cx="73656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are with par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5"/>
          <p:cNvSpPr/>
          <p:nvPr/>
        </p:nvSpPr>
        <p:spPr>
          <a:xfrm>
            <a:off x="5410080" y="5438880"/>
            <a:ext cx="14954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Supports differentiated instruction within RtII T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1 , 2 and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CDT Overview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9640" y="182880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Calibri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t are the Classroom Diagnostic Tool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ennsylvania Classroom Diagnostic Tools (CDT) is a set of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nline tool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ed to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vide diagnostic informa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rder to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guide instruc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vide support to students and teachers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se tools (available at no cost to districts) are fully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ntegrated and aligned with the  Standards Aligned System (SAS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will assist educators in identifying students’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cademic strengths and areas of ne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viding  link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lassroom resourc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476-4978-4E1C-924A-E3F18C025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CDT Overview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69640" y="187632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3920" indent="-85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D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ered to students in grades 6 through high scho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ailable for use in the classroom throughout the school year on a  voluntary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content assessed by the Keystone Exams and the Pennsylvania System of School Assessment (PSS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ised of multiple-choice i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as an online Computer Adaptive Test (CAT), ensuring valid and reliable measures of a student’s skills while minimizing testing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to provide real-time results for students and teachers with links to Materials and Resources in 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BA4D-3EFE-4C1E-A8CA-3201E5CA7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CDT Overview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9640" y="182880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Pennsylvania educators involved in the  development of the Classroom Diagnostic Tool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velopment of the Classroom Diagnostic Tools involved committees of Pennsylvania educators who were convened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alignment of the items to Assessment Anchors and Eligible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e all questions included in the CD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e all units and lesson plans aligned to the Assessment Anchors and Eligible Content linked to the CDT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2A3F-87ED-4DFB-BC87-4102A9345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Learning Prog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Learning Progres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earning Progression shows the developmental sequences or building blocks of content/skills students need to master as they progress toward career and college readi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ressions are tied directly to the Assessment Anchors and Eligible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also tied directly to the Voluntary Model Curriculum  (VMC) Units and Lesson Plans and are posted on the SAS 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5F9A-89A0-4AAB-BE59-F26909F0F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2:55:35Z</dcterms:created>
  <dc:creator>jchichi</dc:creator>
  <dc:description/>
  <dc:language>en-US</dc:language>
  <cp:lastModifiedBy>daphnesnook</cp:lastModifiedBy>
  <dcterms:modified xsi:type="dcterms:W3CDTF">2011-05-26T18:10:57Z</dcterms:modified>
  <cp:revision>4550</cp:revision>
  <dc:subject/>
  <dc:title>PowerPoint Presentation</dc:title>
</cp:coreProperties>
</file>